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4BE-4B07-41EB-9221-99906A83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899-47B5-439C-A3E2-04B947D8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09F-D95E-4E77-91A6-9E16490E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CB9-024D-4568-B59A-BFFFF285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206-A09B-439B-A83E-8C97EBC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610-44FD-4C83-864D-C23789D5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473-6F93-4FAD-9A89-72F969A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D08-B9CC-4EEC-AFB3-D3C36D50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B1E-E805-43CE-B2E9-5D91F3A2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807-0E92-4062-923C-BC5E44AA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8B7-96BE-4AAC-A2FE-4EC2E70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523-56AF-47F8-97AA-9EC6E55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1A53-0D25-4602-B708-FE7B40C6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Creative Handicrafts from Recycled Materia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 Portfolio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e Cyrene Samb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herine Jean Mab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1523880"/>
            <a:ext cx="8001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ilippians 4: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can do all things through Christ who gives me strength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d =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will improve a child’s skills in innovating creative and useful products coming from recycled materials to ensure child’s environmental awareness.  They will create handmade products for the purpose of nurturing self-independence and creativity.  Their products could also be an avenue for business ven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mportance of responsi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o recycle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innovatively create useful products from recycled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biodegradable and non-biodegradable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cycled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we create artistic materials from recycled materia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peers and community members through 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roduct that shows what they’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innovating creative and useful products from recycl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child’s environment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ive Handicraft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ject will help my students develop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ng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biodegradable materials from non-biodegradable mater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rtistic products from recycled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with others through s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use my Essential and Unit Question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out children’s ideas about the importance of reusing materials to help ou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on biodegradable and non-biodegradabl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useful products from recycl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21st Centu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create artistic products from recycl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 will learn from th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r pupils think about the importance of recycl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r pupils think are the importance of discipline, hard work,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our pupils will gain from th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upils don’t know what product to create, we can provide examples from variou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ays to get our pupils more interested in learning new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bout different kinds of technology we and our pupils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dea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est for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ways to help children to understand the value of discipline, hard work and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or helping children take more responsibility for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8:41:54Z</dcterms:created>
  <dc:creator>nave1386</dc:creator>
  <dc:description/>
  <dc:language>en-US</dc:language>
  <cp:lastModifiedBy>nave1386</cp:lastModifiedBy>
  <dcterms:modified xsi:type="dcterms:W3CDTF">2010-09-21T08:51:18Z</dcterms:modified>
  <cp:revision>15</cp:revision>
  <dc:subject/>
  <dc:title>Creative Handicrafts from Recycled Materials </dc:title>
</cp:coreProperties>
</file>